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E3BA-D8E6-4315-AB55-782CE0F1FB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9F47-3BA6-4F8F-9F31-00E6519D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A1847-693A-4EB2-8E76-4B5889CB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73B0-01B1-4F37-A94B-AF643E133C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D658-03D5-447D-B11D-327038B2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993C6-7DEB-4B17-852D-84106C87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E505-C119-4393-A74E-80BD4C98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B409-DD76-49A2-B002-925709BF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2D265-3EBA-4C46-8731-4103B075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560C-86D8-4364-BD2A-275B72DB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E188-ED53-480D-9B09-BB791DE4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D250-2E29-4D69-9DFD-06ACFA1B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E6D6-51BA-4D0C-97E6-4A53975E5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gen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match the captions with the correc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talk with your partner about hydrogen p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sentences in the passiv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4 on the worksheet: write answers to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8:07Z</dcterms:modified>
  <cp:revision>29</cp:revision>
  <dc:subject/>
  <dc:title>  </dc:title>
</cp:coreProperties>
</file>